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88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9660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232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88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6640"/>
            <a:ext cx="26982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2320" y="614160"/>
            <a:ext cx="838044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80664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232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596600"/>
            <a:ext cx="408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2320" y="3806640"/>
            <a:ext cx="8380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2320" y="1596600"/>
            <a:ext cx="8380440" cy="42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14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67572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013400" indent="-33588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350000" indent="-3344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687680" indent="-3362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"/>
          <p:cNvSpPr/>
          <p:nvPr/>
        </p:nvSpPr>
        <p:spPr>
          <a:xfrm>
            <a:off x="-7560" y="65419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www.managedservicesuniversit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59080" y="655632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5 Intelligent Enterprise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020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F231-A2B6-4526-B2DD-441B95C6CB50}" type="slidenum"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0120" y="1825200"/>
            <a:ext cx="8508960" cy="31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Integrated T1’s for Voice and Data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b601"/>
                </a:solidFill>
                <a:latin typeface="Segoe Semibold"/>
              </a:rPr>
              <a:t>A New Choice In Telecommunications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"/>
          <p:cNvSpPr/>
          <p:nvPr/>
        </p:nvSpPr>
        <p:spPr>
          <a:xfrm>
            <a:off x="2046240" y="3309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175104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More economical than separate Voice and Broadband Service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xtremely Customizabl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Network Management and Monitoring 24/7/365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mple, Competitive Pric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Bundle all of your Local, Long Distance and High-Speed Interne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tart with as few as 4 Voice Lines and 1024Kbps of Broadban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asy to add Voice Lines – scale according to your needs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Email Services and Web Hosting Packages Availabl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mple, Integrated Invoice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Inexpensive to implemen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Segoe Semibold"/>
              </a:rPr>
              <a:t>How does your current service stack u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Combined Voice and Data Circuit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75104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Line Hunt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3-Way Call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x-Way Call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peed Call 8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ll Transfer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ll Hol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Variable Call Forward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Remote Call Forwarding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ll Pickup Group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irected Call Pickup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37680" indent="-3376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Call Park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Segoe Semibold"/>
              </a:rPr>
              <a:t>How does your current service stack u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Integrated T1 Voice Feature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75104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Provides a Dedicated Digital Channel for access to the Interne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peeds range from 265K to 1.544M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Router Includ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Up to 128 Email Addresses includ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90000"/>
              </a:lnSpc>
              <a:spcBef>
                <a:spcPts val="876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Domain Name Hosting Includ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Segoe Semibold"/>
              </a:rPr>
              <a:t>How does your current service stack u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Integrated T1 Data Features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9760" y="1549080"/>
            <a:ext cx="8610840" cy="33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Is the phone a critical part of your busines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Want to reduce the costs and management associated separate Voice and Data Services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Do you anticipate rapid or uncertain growth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re you planning an office move soon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Are you looking for increases in business productivity?</a:t>
            </a:r>
            <a:endParaRPr b="0" lang="en-US" sz="1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2320" y="614520"/>
            <a:ext cx="83804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601"/>
                </a:solidFill>
                <a:latin typeface="Segoe Semibold"/>
              </a:rPr>
              <a:t>Are You a Candidate for an Integrated T1?</a:t>
            </a:r>
            <a:endParaRPr b="0" lang="en-US" sz="32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6000" y="1994040"/>
            <a:ext cx="85341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s your 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ts monthly telecom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es with your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to control, configure, and custom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ified Invoicing allows you to focus on your bus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320" y="614160"/>
            <a:ext cx="8380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601"/>
                </a:solidFill>
                <a:latin typeface="Segoe Semibold"/>
              </a:rPr>
              <a:t>As We End Our Session</a:t>
            </a:r>
            <a:endParaRPr b="0" lang="en-US" sz="4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42:31Z</dcterms:created>
  <dc:creator/>
  <dc:description/>
  <dc:language>en-US</dc:language>
  <cp:lastModifiedBy>Erick Simpson</cp:lastModifiedBy>
  <dcterms:modified xsi:type="dcterms:W3CDTF">2006-08-11T00:12:36Z</dcterms:modified>
  <cp:revision>396</cp:revision>
  <dc:subject/>
  <dc:title>Managed Services T1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